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2A12-09F1-4C31-8723-BA64882ED0B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F595-E162-44B6-83B3-078DC03F5C6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mployment Programs and Services – Getting Back to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u="sng">
                <a:solidFill>
                  <a:srgbClr val="000000"/>
                </a:solidFill>
                <a:uFillTx/>
                <a:latin typeface="Arial"/>
              </a:rPr>
              <a:t>http://www.hrsdc.gc.ca/en/epb/sid/cia/grants/eas/desc_ea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000000"/>
                </a:solidFill>
                <a:latin typeface="Arial"/>
              </a:rPr>
              <a:t>Employment Services and programs are designed t</a:t>
            </a:r>
            <a:r>
              <a:rPr b="0" i="1" lang="en-CA" sz="1200" spc="-1" strike="noStrike">
                <a:solidFill>
                  <a:srgbClr val="000000"/>
                </a:solidFill>
                <a:latin typeface="Arial"/>
              </a:rPr>
              <a:t>o assist unemployed individuals prepare for, obtain and maintain employment by providing them with services such as employment counselling, job search techniques, job placement, training courses in areas of labour market demand, and labour market information.</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heard that Employment Ontario/MTCU has received a large volume of applications.  You need to work with your counselor at your assessment centre to set realistic training goals.  We also encourage you to explore other employment programs and services to help with your search for new 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AE77-8633-472A-A5C4-0D88F75C194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F0FD8-B3CC-4E1B-9E94-6C6393782F2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3A8FE-4780-4521-9580-2A7001B12B9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92FD-6CE3-422F-93FD-615E8745D59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67D9-0601-4F61-92A9-C16C085A11F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59AC-2185-4CF7-96E5-1DE92C12336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E6788-ED5A-4663-9E82-EEC69E97DE2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90ABA-1231-4CCE-98CD-0A584D4CFF8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2958-F702-4690-AFEF-67F62400B2D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D07E-12BC-463C-8F1D-605319F1B52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787D-9C97-40A5-9D47-230B6F8443A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D7CA-359D-4B84-A87F-05CADB01EDC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2E38-7F23-4FEE-8F13-4217A742E00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C316-94FD-441B-B002-DA674A07FAC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CEFE3-CA04-4C38-B736-9FBA835EE3D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980D-0438-4018-80C1-6E29B8D7AB7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F186F-6519-4E97-80F2-F963ABB6FAE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8BEBF-7995-4386-9737-5800961673C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479F-A744-4CD5-A272-10BF6D93617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AD2A-4714-40CA-AD0B-C86DAA52A39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BE85-2C00-4A50-80FD-3D4A544AEF0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1F1A-9329-49B8-BA2D-DBF6F19AB8A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CE03-16FC-4C1C-BFE3-9FAC66535A0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8F8F-6E52-4F0D-AFE8-1A15F8D11EE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7928-E4BC-40C3-8F2F-A26AC4D7695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cognize many of the services and programs listed here for job seekers as these are the same ones the Service Canada previously offered.  The names have changed, but the objective of the programs has no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0552-D4F4-4496-96F9-6C6403BE8D8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FD274-5F29-4B19-BFEE-E56F59EDDFA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DE1B-6FD5-4DC0-9460-D1B8D55EAA0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B807C-0E35-4A65-977B-9B038737B2A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98E9-504F-4CB1-9F84-B728EDA62DC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7F8A-E616-4100-AA12-FBFCEE65786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Job Seekers, Students, New Canadians, Emplo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SSISTED does not mean there is no staff sup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information and resour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A6F0-D30C-41CE-BD38-449DD09F313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886D-0F38-44D2-8700-822AA226E28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D4FD9-6168-41C1-809B-7E98DAD99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33F71-0583-4C3F-81E7-3C37996D2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B0A19-6419-4DA6-848A-E49CC1264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EA1A9-4E5C-493E-8C19-3C2232D1C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BBDE7-B7D0-4DBE-8640-63F6D40759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454B5-11DD-42DD-82C1-82E122448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5949F-FBFA-4A22-9DB5-AEC512BEE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00AB8-A27C-428B-A04F-61C3B1EEC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9A626-B1E3-4337-80E7-5E99BB301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B9181-797C-461C-84E2-381D57788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A8278-DAD3-417C-A63E-A1D35BCED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A9502-0631-453D-BD8F-D35D79C45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9B31A-5A8C-45A7-8448-453ECB726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1BC41-6CB1-43C6-A30E-F27983E15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ABAB2-CEA1-49C3-9FDC-A9F35CFF0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780ED2-D915-4582-BDEF-509BAD5E6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8FAA47-32BE-4DE3-9221-088FCE6F8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0045A89-BA2E-45AA-9777-3C1FBF36EE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D8000AF-F52C-4165-A90C-8FF8AC9264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967D514-B278-436D-800B-CF617F909D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791133D-4BDD-4E58-BF42-EF7411E86F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F95D0BD-6EA6-44A4-A9FD-C5F13E01B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3E4C4-C409-4311-B50B-A9FE92DDA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F67B4B0-554B-48D9-B9E0-979E60B3E7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0850D9-E3FC-498E-A148-A13934362B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ADCAA84-A3CA-49B6-8C64-73170E5AD1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CB456D5-4DB2-47C7-B490-22564B091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6D131D8-C062-44C3-A0AD-799C28466E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C29DD54-E23F-4141-8231-B688EA1572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70A02DF-0AEB-49AE-AB84-88418F8A2D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0A19115-CF9B-485E-9E7A-348050DCD5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EBD98D3-C3D3-4B19-B0F3-927CDD2577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486EB01-6275-4905-A1C9-39410BA6E2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685C2-B087-4E42-B4CF-4314B9042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56386E4-C9E0-435C-BF0D-3CDEA11784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5CE01CC-22EB-4BF1-93C6-C0F9CE7CA8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1B27F9F-2AB9-4A1F-9981-C925C80E0C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C48F903-3057-4B69-A205-B07EF7966A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A9391DD-DE93-49C8-BC53-421D5D7BA5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AAD9F0E-6F97-4661-A44D-9FBD82538E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8A22EED-9765-4239-9FD9-21D4C62235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EAAEAB9-6B68-4D77-B9D3-9F10283424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FEE4FEE-7353-41B1-92AA-8052BEC462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7F22746-C7F5-4800-BE84-A672290770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3C528-8C8F-4B7D-9FF5-B577A15B4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1BC30EF-C5C9-4407-86C9-78C4E9541D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D3A0D36-7D0B-451D-8020-C5E144F9D7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21014A-C7C9-43E8-9549-E67D3E2E3B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693535D-0608-4558-8AF6-C715F1ECF2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C21058A-A5E0-4A5A-A8BE-B186DADE4E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D56B1E-B8BC-41BD-A5E8-E95D733624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EB056A9-5348-463C-82D0-B386918933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B982F2-9F4B-4D63-A1C2-BE057D399D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96438BD-D3B4-4FE2-90DE-22D908ACD1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365B8BE-8107-4BDA-82AC-A017AA6C6B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ED88B-97DE-4914-A03A-CCFDC0614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6E0FB4C-E67B-49D8-BCC8-4A66BE877A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456551-2972-4B06-8F76-2B31E0851B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0FCEA1-D0A1-4703-B5B6-55DAF115EE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214B7B-6942-4D40-B75D-AC39359A49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190EB4-3084-4063-90CE-22EA58F4B4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897151-152D-4291-B87C-EB55CC03EE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A9E886-2F73-4E76-A4A5-0CA97AC3B9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3F0565-EBCA-4DB6-A27A-A19C7F4E77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1853BA-F486-46BD-BEDE-9DA257E338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285FA0-B9B2-4C1B-8A96-FF9102D273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8C14A-1F7F-4DA3-AEDB-635015B4F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F26BBE-7F82-4586-BE48-0442C0ADC1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61FF85-395C-4B8E-9F96-44E61E8EE3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DE87F9-5396-4D7D-8996-D084C3666B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B912735-09D4-4638-850F-E830892D04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AC00D2D-9A1B-407A-A5C6-78EF21BC31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B2234E6-5A08-4371-8DFC-E42EFA5D22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47EEA9A-13ED-452F-A9AF-0B0ECC96C5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E5AAE72-1341-462F-B61F-4AE33555A2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6A99AD8-6342-4B99-A62A-DA1F43938C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ABEDF95-AE22-49AD-B8BA-7493DC1346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EA9B7-F1B5-4A2B-898E-4EC7693D6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3CBF87E-A105-44F0-B43C-5E704EDED0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4D4D239-429C-4B02-B20D-F32AD4C281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3BABACF-DB0B-4C73-B286-D2BA0D9CF8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6F175C6-74A0-49E8-9A7B-7C3285721D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182DF2D-135B-4D71-9162-F25A297679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964E1D-27CC-4BC6-BB22-727AC47154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863424-4560-4824-87F9-C68A245BE7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BC740F-D2AD-4EDA-BFBE-D50B40E921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751D18-1ABA-4E93-9789-947CB06C5E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71AC0B-5DFB-4D24-81B2-9E044E60BB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7BF6C-78D4-4F2A-AE85-4D471B9E0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904698-0246-4752-A700-D9638DE5C2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EF1325-60DB-4844-BB5B-0C9FD5C5BD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726FEF-62B0-4F16-A142-AB74C5FC92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E303B7-B2E8-4336-827E-2AF0D6A782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4117AF-7E95-4225-9515-94E9676DD3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81CBA5-F672-4325-BCF6-FA3371AB61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702862-9F7A-436B-BB19-138575C83C2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0084-9D5B-4243-9A7E-99C297FF24C6}"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D724-E2C4-4B68-A4D9-3BB4E9C07F02}" type="slidenum">
              <a:rPr b="1" lang="en-CA"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06C9-CA3A-4ADE-B24C-9F4BE6A1AB53}" type="slidenum">
              <a:rPr b="1" lang="en-C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7B3C-00CB-4034-969D-5410D6617EE1}"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9BC29-5202-4AF3-BB82-3FC79546D5DD}"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E0613-FB8B-449A-A060-E0923E5648AD}" type="slidenum">
              <a:rPr b="1" lang="en-CA"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B4DB-D9C1-41A5-910E-2F6609857D92}" type="slidenum">
              <a:rPr b="1" lang="en-CA"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E5AD-BC36-4E7D-A8B4-E20FB4E955BC}"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40000" y="2492280"/>
            <a:ext cx="64771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ebddc3"/>
                </a:solidFill>
                <a:latin typeface="Tw Cen MT"/>
              </a:rPr>
              <a:t>EMPLOYMENT ONTARIO</a:t>
            </a:r>
            <a:br>
              <a:rPr sz="4000"/>
            </a:br>
            <a:r>
              <a:rPr b="1" lang="en-CA" sz="4000" spc="-1" strike="noStrike">
                <a:solidFill>
                  <a:srgbClr val="ebddc3"/>
                </a:solidFill>
                <a:latin typeface="Tw Cen MT"/>
              </a:rPr>
              <a:t>PROGRAMS AND SERVICES</a:t>
            </a:r>
            <a:endParaRPr b="0" lang="en-US" sz="40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ffff"/>
                </a:solidFill>
                <a:latin typeface="Tw Cen MT"/>
              </a:rPr>
              <a:t>May 13, 2011</a:t>
            </a:r>
            <a:endParaRPr b="0" lang="en-US" sz="2600" spc="-1" strike="noStrike">
              <a:solidFill>
                <a:srgbClr val="ffffff"/>
              </a:solidFill>
              <a:latin typeface="Tw Cen MT"/>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ferral to Community Services </a:t>
            </a:r>
            <a:endParaRPr b="0" lang="en-US" sz="4400" spc="-1" strike="noStrike">
              <a:solidFill>
                <a:srgbClr val="775f55"/>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fontScale="97000"/>
          </a:bodyPr>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Referrals may be made at any point of client contact</a:t>
            </a:r>
            <a:endParaRPr b="0" lang="en-US" sz="32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ntake or one-on-one Employment Consultant will refer based on individual assessment</a:t>
            </a:r>
            <a:endParaRPr b="0" lang="en-US" sz="32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Ex: Language assessment, ESL, credential assessment, housing, financial planning, counseling services, etc.</a:t>
            </a:r>
            <a:endParaRPr b="0" lang="en-US" sz="3200" spc="-1" strike="noStrike">
              <a:solidFill>
                <a:srgbClr val="000000"/>
              </a:solidFill>
              <a:latin typeface="Tw Cen MT"/>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ssisted Services</a:t>
            </a:r>
            <a:endParaRPr b="0" lang="en-US" sz="4400" spc="-1" strike="noStrike">
              <a:solidFill>
                <a:srgbClr val="775f55"/>
              </a:solidFill>
              <a:latin typeface="Tw Cen MT"/>
            </a:endParaRPr>
          </a:p>
        </p:txBody>
      </p:sp>
      <p:sp>
        <p:nvSpPr>
          <p:cNvPr id="378" name=""/>
          <p:cNvSpPr txBox="1"/>
          <p:nvPr/>
        </p:nvSpPr>
        <p:spPr>
          <a:xfrm>
            <a:off x="612720" y="1600200"/>
            <a:ext cx="835200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Eligibility criteria:</a:t>
            </a:r>
            <a:endParaRPr b="0" lang="en-US" sz="3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Unemployed</a:t>
            </a:r>
            <a:endParaRPr b="0" lang="en-US" sz="3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Not participating in full-time training or education</a:t>
            </a:r>
            <a:endParaRPr b="0" lang="en-US" sz="3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Underemployed – working less than an average of 20 hours per week</a:t>
            </a:r>
            <a:endParaRPr b="0" lang="en-US" sz="3200" spc="-1" strike="noStrike">
              <a:solidFill>
                <a:srgbClr val="000000"/>
              </a:solidFill>
              <a:latin typeface="Tw Cen MT"/>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itability Factors</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illingness to begin employment</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istory of poor work retention; ineffective independent job search</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bstantial time out of school, work or training</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ck of relevant, credible or Canadian work experience</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ducation/credentials from outside of Canada</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nguage skill level is a barrier to employment</a:t>
            </a:r>
            <a:endParaRPr b="0" lang="en-US" sz="2900" spc="-1" strike="noStrike">
              <a:solidFill>
                <a:srgbClr val="000000"/>
              </a:solidFill>
              <a:latin typeface="Tw Cen MT"/>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itability Factors cont’d…</a:t>
            </a:r>
            <a:endParaRPr b="0" lang="en-US" sz="4400" spc="-1" strike="noStrike">
              <a:solidFill>
                <a:srgbClr val="775f55"/>
              </a:solidFill>
              <a:latin typeface="Tw Cen MT"/>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w level of education attaine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sabilit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g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ource of incom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lf-identified as Aboriginal</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bour market change</a:t>
            </a:r>
            <a:endParaRPr b="0" lang="en-US" sz="2900" spc="-1" strike="noStrike">
              <a:solidFill>
                <a:srgbClr val="000000"/>
              </a:solidFill>
              <a:latin typeface="Tw Cen MT"/>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Assisted Services / Case Management</a:t>
            </a:r>
            <a:endParaRPr b="0" lang="en-US" sz="4000" spc="-1" strike="noStrike">
              <a:solidFill>
                <a:srgbClr val="775f55"/>
              </a:solidFill>
              <a:latin typeface="Tw Cen MT"/>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ment Service Plan is opene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dividualized assistance in career clarification and goal settin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kills and interest assessmen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view and employment prepar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alistic and accurate assessment of qualifications compared to job requirement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ssisted Services cont’d…</a:t>
            </a:r>
            <a:endParaRPr b="0" lang="en-US" sz="44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 the client works with the service provider, a more in-depth analysis is undertake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ditional service needs may be identified and provided or coordinated with other service providers (referral)</a:t>
            </a:r>
            <a:endParaRPr b="0" lang="en-US" sz="2900" spc="-1" strike="noStrike">
              <a:solidFill>
                <a:srgbClr val="000000"/>
              </a:solidFill>
              <a:latin typeface="Tw Cen MT"/>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Job Search</a:t>
            </a:r>
            <a:endParaRPr b="0" lang="en-US" sz="4400" spc="-1" strike="noStrike">
              <a:solidFill>
                <a:srgbClr val="775f55"/>
              </a:solidFill>
              <a:latin typeface="Tw Cen MT"/>
            </a:endParaRPr>
          </a:p>
        </p:txBody>
      </p:sp>
      <p:sp>
        <p:nvSpPr>
          <p:cNvPr id="388" name=""/>
          <p:cNvSpPr txBox="1"/>
          <p:nvPr/>
        </p:nvSpPr>
        <p:spPr>
          <a:xfrm>
            <a:off x="612720" y="1600200"/>
            <a:ext cx="8153280" cy="4495680"/>
          </a:xfrm>
          <a:prstGeom prst="rect">
            <a:avLst/>
          </a:prstGeom>
          <a:noFill/>
          <a:ln w="0">
            <a:noFill/>
          </a:ln>
        </p:spPr>
        <p:txBody>
          <a:bodyPr anchor="t">
            <a:normAutofit fontScale="97000"/>
          </a:bodyPr>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Individualized support for conducting a successful job search</a:t>
            </a:r>
            <a:endParaRPr b="0" lang="en-US" sz="27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Encompasses clarification of interests, abilities, skills, short &amp; long-term goals</a:t>
            </a:r>
            <a:endParaRPr b="0" lang="en-US" sz="27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Orientation to workplace: rules, employer expectations, Canadian workplace culture</a:t>
            </a:r>
            <a:endParaRPr b="0" lang="en-US" sz="27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Rights and responsibilities of employees</a:t>
            </a:r>
            <a:endParaRPr b="0" lang="en-US" sz="27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reparation of tools – resume, applications, strategies</a:t>
            </a:r>
            <a:endParaRPr b="0" lang="en-US" sz="27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Information about access to language, credential assessment</a:t>
            </a:r>
            <a:endParaRPr b="0" lang="en-US" sz="2700" spc="-1" strike="noStrike">
              <a:solidFill>
                <a:srgbClr val="000000"/>
              </a:solidFill>
              <a:latin typeface="Tw Cen MT"/>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Job Matching, Placement &amp; Incentives</a:t>
            </a:r>
            <a:endParaRPr b="0" lang="en-US" sz="4000" spc="-1" strike="noStrike">
              <a:solidFill>
                <a:srgbClr val="775f55"/>
              </a:solidFill>
              <a:latin typeface="Tw Cen MT"/>
            </a:endParaRPr>
          </a:p>
        </p:txBody>
      </p:sp>
      <p:sp>
        <p:nvSpPr>
          <p:cNvPr id="39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Provides matching and placement services to clients who are unlikely to succeed in conducting their own job search, even with support, because of barriers to employment</a:t>
            </a: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Job Matching, Placement &amp; Incentives</a:t>
            </a:r>
            <a:endParaRPr b="0" lang="en-US" sz="40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lp to match client skills and interests with work opportunities</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lp in facilitation of work opportunities and negotiation of the employment relationship on their behalf</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periential or on-the-job training opportunities</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lacement support – identify and resolve issues</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nancial supports to help remove barriers</a:t>
            </a:r>
            <a:endParaRPr b="0" lang="en-US" sz="2900" spc="-1" strike="noStrike">
              <a:solidFill>
                <a:srgbClr val="000000"/>
              </a:solidFill>
              <a:latin typeface="Tw Cen MT"/>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Job Matching, Placement &amp; Incentives</a:t>
            </a:r>
            <a:endParaRPr b="0" lang="en-US" sz="4000" spc="-1" strike="noStrike">
              <a:solidFill>
                <a:srgbClr val="775f55"/>
              </a:solidFill>
              <a:latin typeface="Tw Cen MT"/>
            </a:endParaRPr>
          </a:p>
        </p:txBody>
      </p:sp>
      <p:sp>
        <p:nvSpPr>
          <p:cNvPr id="39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Job development – proactive outreach to employers to identify opportuniti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r support in identifying skills required and capabilities neede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nsitivity/diversity training, workplace accommod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tching employer skill needs and participant capabilities and interests</a:t>
            </a:r>
            <a:endParaRPr b="0" lang="en-US" sz="2900" spc="-1" strike="noStrike">
              <a:solidFill>
                <a:srgbClr val="000000"/>
              </a:solidFill>
              <a:latin typeface="Tw Cen MT"/>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jectives</a:t>
            </a:r>
            <a:endParaRPr b="0" lang="en-US" sz="4400" spc="-1" strike="noStrike">
              <a:solidFill>
                <a:srgbClr val="775f55"/>
              </a:solidFill>
              <a:latin typeface="Tw Cen MT"/>
            </a:endParaRPr>
          </a:p>
        </p:txBody>
      </p:sp>
      <p:sp>
        <p:nvSpPr>
          <p:cNvPr id="360" name=""/>
          <p:cNvSpPr txBox="1"/>
          <p:nvPr/>
        </p:nvSpPr>
        <p:spPr>
          <a:xfrm>
            <a:off x="612720" y="1600200"/>
            <a:ext cx="8531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vide an overview of the components of the Employment Ontario Employment Servic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arify how your clients can access services (referral)</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ake a closer look at each component of EO Employment Servic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nswer any questions that you may hav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Job Matching, Placement &amp; Incentives</a:t>
            </a:r>
            <a:endParaRPr b="0" lang="en-US" sz="4000" spc="-1" strike="noStrike">
              <a:solidFill>
                <a:srgbClr val="775f55"/>
              </a:solidFill>
              <a:latin typeface="Tw Cen MT"/>
            </a:endParaRPr>
          </a:p>
        </p:txBody>
      </p:sp>
      <p:sp>
        <p:nvSpPr>
          <p:cNvPr id="396"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lacement opportunities with or without incentives, volunteer placement, job trial and on-the-job training opportunitie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velopment of a training plan and agreement, includes negotiation of financial incentive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nitoring of placement and agreement to support succes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 participants with mentors and coaches to provide support during and after placement</a:t>
            </a:r>
            <a:endParaRPr b="0" lang="en-US" sz="2900" spc="-1" strike="noStrike">
              <a:solidFill>
                <a:srgbClr val="000000"/>
              </a:solidFill>
              <a:latin typeface="Tw Cen MT"/>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mployment and Training Supports</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vailable on a temporary basis to address financial barriers to participation in Employment Services for assisted clien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pecial equipment, supplies (e.g. safety boot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ransportation</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ork clothing/grooming needs to achieve credibility</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ertification charge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 determined based on need </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Job / Training Retention</a:t>
            </a:r>
            <a:endParaRPr b="0" lang="en-US" sz="44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ents expect that their experience in the Employment Service will lead them on a path to sustained employmen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nitoring &amp; follow-up</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re may be a need for additional coaching / mentoring to maintain employment or complete trainin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velopment of a support plan with the client and mentor</a:t>
            </a:r>
            <a:endParaRPr b="0" lang="en-US" sz="2900" spc="-1" strike="noStrike">
              <a:solidFill>
                <a:srgbClr val="000000"/>
              </a:solidFill>
              <a:latin typeface="Tw Cen MT"/>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Job / Training Retention</a:t>
            </a:r>
            <a:endParaRPr b="0" lang="en-US" sz="44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ing participants with mentors and coaches to provide support during and after job placement</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nitoring of the mentor/coach relationship with clients and its impact on workplace success</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ke adjustments as required</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llow-up occurs continuously</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ith placement – positive 3 month follow-up – goal of sustainable employment reached - exit </a:t>
            </a:r>
            <a:endParaRPr b="0" lang="en-US" sz="2900" spc="-1" strike="noStrike">
              <a:solidFill>
                <a:srgbClr val="000000"/>
              </a:solidFill>
              <a:latin typeface="Tw Cen MT"/>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775f55"/>
                </a:solidFill>
                <a:latin typeface="Tw Cen MT"/>
              </a:rPr>
              <a:t>Second Career</a:t>
            </a:r>
            <a:endParaRPr b="0" lang="en-US" sz="4400" spc="-1" strike="noStrike">
              <a:solidFill>
                <a:srgbClr val="775f55"/>
              </a:solidFill>
              <a:latin typeface="Tw Cen MT"/>
            </a:endParaRPr>
          </a:p>
        </p:txBody>
      </p:sp>
      <p:sp>
        <p:nvSpPr>
          <p:cNvPr id="404" name=""/>
          <p:cNvSpPr txBox="1"/>
          <p:nvPr/>
        </p:nvSpPr>
        <p:spPr>
          <a:xfrm>
            <a:off x="612720" y="1600200"/>
            <a:ext cx="8153280" cy="4495680"/>
          </a:xfrm>
          <a:prstGeom prst="rect">
            <a:avLst/>
          </a:prstGeom>
          <a:noFill/>
          <a:ln w="0">
            <a:noFill/>
          </a:ln>
        </p:spPr>
        <p:txBody>
          <a:bodyPr anchor="t">
            <a:normAutofit fontScale="90000"/>
          </a:bodyPr>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Second Career provides laid-off workers with:</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skills training to help them find jobs in high-demand occupations in Ontario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financial support </a:t>
            </a:r>
            <a:endParaRPr b="0" lang="en-US" sz="18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	</a:t>
            </a:r>
            <a:endParaRPr b="0" lang="en-US" sz="18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Second Career provides up to $28,000 for:</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uition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books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other instruction costs such as manuals or workbooks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ransportation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a basic living allowance </a:t>
            </a:r>
            <a:endParaRPr b="0" lang="en-US" sz="18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Second Career is a</a:t>
            </a:r>
            <a:r>
              <a:rPr b="0" lang="en-CA" sz="1800" spc="-1" strike="noStrike">
                <a:solidFill>
                  <a:srgbClr val="000000"/>
                </a:solidFill>
                <a:latin typeface="Tw Cen MT"/>
              </a:rPr>
              <a:t> </a:t>
            </a:r>
            <a:r>
              <a:rPr b="1" lang="en-CA" sz="1800" spc="-1" strike="noStrike">
                <a:solidFill>
                  <a:srgbClr val="000000"/>
                </a:solidFill>
                <a:latin typeface="Tw Cen MT"/>
              </a:rPr>
              <a:t>cost-sharing grant</a:t>
            </a:r>
            <a:r>
              <a:rPr b="0" lang="en-CA" sz="1800" spc="-1" strike="noStrike">
                <a:solidFill>
                  <a:srgbClr val="000000"/>
                </a:solidFill>
                <a:latin typeface="Tw Cen MT"/>
              </a:rPr>
              <a:t> provided on the basis of need, so you may be asked to contribute what you can to your training or education.</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Additional support may be available to accommodate the needs of people with disabilities, dependent care, costs of living away from home and academic upgrading.</a:t>
            </a:r>
            <a:endParaRPr b="0" lang="en-US" sz="1800" spc="-1" strike="noStrike">
              <a:solidFill>
                <a:srgbClr val="000000"/>
              </a:solidFill>
              <a:latin typeface="Tw Cen MT"/>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775f55"/>
                </a:solidFill>
                <a:latin typeface="Tw Cen MT"/>
              </a:rPr>
              <a:t>Second Career</a:t>
            </a:r>
            <a:endParaRPr b="0" lang="en-US" sz="4400" spc="-1" strike="noStrike">
              <a:solidFill>
                <a:srgbClr val="775f55"/>
              </a:solidFill>
              <a:latin typeface="Tw Cen MT"/>
            </a:endParaRPr>
          </a:p>
        </p:txBody>
      </p:sp>
      <p:sp>
        <p:nvSpPr>
          <p:cNvPr id="406" name=""/>
          <p:cNvSpPr txBox="1"/>
          <p:nvPr/>
        </p:nvSpPr>
        <p:spPr>
          <a:xfrm>
            <a:off x="684000" y="1267920"/>
            <a:ext cx="7869240" cy="59770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Individuals may be eligible for Second Career if they ar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are laid off or have been laid off since January 2005.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are unemployed or working an interim job.</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are choosing to retrain for a career that is in demand.</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Second Career provides help to laid-off workers in need who will benefit most from training to find work. Several factors are considered when figuring out who will receive funding.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Active job search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Length of unemployment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Education background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Work history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Labour market prospects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Training request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Experience and occupational skills </a:t>
            </a:r>
            <a:endParaRPr b="0" lang="en-US" sz="20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w Cen MT"/>
              </a:rPr>
              <a:t>Apprenticeship Programs</a:t>
            </a:r>
            <a:endParaRPr b="0" lang="en-US" sz="4400" spc="-1" strike="noStrike">
              <a:solidFill>
                <a:srgbClr val="775f55"/>
              </a:solidFill>
              <a:latin typeface="Tw Cen MT"/>
            </a:endParaRPr>
          </a:p>
        </p:txBody>
      </p:sp>
      <p:sp>
        <p:nvSpPr>
          <p:cNvPr id="408" name=""/>
          <p:cNvSpPr txBox="1"/>
          <p:nvPr/>
        </p:nvSpPr>
        <p:spPr>
          <a:xfrm>
            <a:off x="468360" y="1483920"/>
            <a:ext cx="8229600" cy="53737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Apprenticeship is a combination of on-the-job and in-school training for employment in a skilled trade. On average, 90 per cent of training takes place in the workplace with instruction by certified journeypersons. The remainder involves classroom instruction delivered at a college of applied arts and technology</a:t>
            </a:r>
            <a:r>
              <a:rPr b="1" lang="en-CA" sz="1800" spc="-1" strike="noStrike">
                <a:solidFill>
                  <a:srgbClr val="000000"/>
                </a:solidFill>
                <a:latin typeface="Tw Cen MT"/>
              </a:rPr>
              <a:t> </a:t>
            </a:r>
            <a:r>
              <a:rPr b="0" lang="en-CA" sz="1800" spc="-1" strike="noStrike">
                <a:solidFill>
                  <a:srgbClr val="000000"/>
                </a:solidFill>
                <a:latin typeface="Tw Cen MT"/>
              </a:rPr>
              <a:t>or other approved training delivery agent.</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here are more than 150 apprenticeship trades in four sectors: construction, industrial/manufacturing, motive power and service.</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In Ontario, there are more than 120,000 apprentices learning a trade, which usually takes two to five years to complete both in-school training and on-the-job training to become a certified journeyperson.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Both EI and non-EI apprentices may be eligible for financial supports for in-school training and completion incentives from governments.</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Apprenticeship programs are offered by different organizations, such as colleges and approved apprenticeship training deliverers. Individuals can find out local program offerings through Employment Ontario Hotline: 1-800-387-5656.</a:t>
            </a:r>
            <a:endParaRPr b="0" lang="en-US" sz="1800" spc="-1" strike="noStrike">
              <a:solidFill>
                <a:srgbClr val="000000"/>
              </a:solidFill>
              <a:latin typeface="Tw Cen MT"/>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775f55"/>
                </a:solidFill>
                <a:latin typeface="Tw Cen MT"/>
              </a:rPr>
              <a:t>Apprenticeship Scholarship (AS)</a:t>
            </a:r>
            <a:endParaRPr b="0" lang="en-US" sz="4000" spc="-1" strike="noStrike">
              <a:solidFill>
                <a:srgbClr val="775f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Interest in the skilled trades</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Must be committed to meeting the necessary academic requirements for the chosen program within one year</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500 awarded when registered for upgrading</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500 awarded upon confirmation of successful completion</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775f55"/>
                </a:solidFill>
                <a:latin typeface="Tw Cen MT"/>
              </a:rPr>
              <a:t>Apprenticeship Employer Signing Bonus (AESB)</a:t>
            </a:r>
            <a:endParaRPr b="0" lang="en-US" sz="3600" spc="-1" strike="noStrike">
              <a:solidFill>
                <a:srgbClr val="775f55"/>
              </a:solidFill>
              <a:latin typeface="Tw Cen MT"/>
            </a:endParaRPr>
          </a:p>
        </p:txBody>
      </p:sp>
      <p:sp>
        <p:nvSpPr>
          <p:cNvPr id="412"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Employer must commit to a relevant apprenticeship training plan</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Initial payment of $1000 when the training agreement is signed</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Final payment of $1000 six months from the signing date if apprentice is still working and training with the same employer</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775f55"/>
                </a:solidFill>
                <a:latin typeface="Tw Cen MT"/>
              </a:rPr>
              <a:t>Pre-Apprenticeship Training Program</a:t>
            </a:r>
            <a:endParaRPr b="0" lang="en-US" sz="3600" spc="-1" strike="noStrike">
              <a:solidFill>
                <a:srgbClr val="775f55"/>
              </a:solidFill>
              <a:latin typeface="Tw Cen MT"/>
            </a:endParaRPr>
          </a:p>
        </p:txBody>
      </p:sp>
      <p:sp>
        <p:nvSpPr>
          <p:cNvPr id="414" name=""/>
          <p:cNvSpPr txBox="1"/>
          <p:nvPr/>
        </p:nvSpPr>
        <p:spPr>
          <a:xfrm>
            <a:off x="612720" y="1599840"/>
            <a:ext cx="8153280" cy="5257800"/>
          </a:xfrm>
          <a:prstGeom prst="rect">
            <a:avLst/>
          </a:prstGeom>
          <a:noFill/>
          <a:ln w="0">
            <a:noFill/>
          </a:ln>
        </p:spPr>
        <p:txBody>
          <a:bodyPr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The Pre-Apprenticeship Training Program helps potential entrants to the apprenticeship system develop their job skills and trade readiness so that they will be prepared to find work as apprentices.</a:t>
            </a:r>
            <a:endParaRPr b="0" lang="en-US" sz="20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Programs are up to 40 weeks in duration and include the Level 1 apprenticeship in-school training, relevant safety training and a minimum 8-week work placement. Programs may also include trade readiness, employment preparation and academic upgrading.</a:t>
            </a:r>
            <a:endParaRPr b="0" lang="en-US" sz="20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There is no cost to participate in a pre-apprenticeship program, and costs for text books, safety equipment and tools are included. </a:t>
            </a:r>
            <a:endParaRPr b="0" lang="en-US" sz="20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w Cen MT"/>
              </a:rPr>
              <a:t>Who can participate?</a:t>
            </a:r>
            <a:endParaRPr b="0" lang="en-US" sz="20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he Pre-Apprenticeship Training Program is open to a wide range of clients including:</a:t>
            </a:r>
            <a:endParaRPr b="0" lang="en-US" sz="1800" spc="-1" strike="noStrike">
              <a:solidFill>
                <a:srgbClr val="000000"/>
              </a:solidFill>
              <a:latin typeface="Tw Cen MT"/>
            </a:endParaRPr>
          </a:p>
          <a:p>
            <a:pPr lvl="2" marL="868680" indent="-21708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w Cen MT"/>
              </a:rPr>
              <a:t>High School graduates /Early school leavers </a:t>
            </a:r>
            <a:endParaRPr b="0" lang="en-US" sz="1200" spc="-1" strike="noStrike">
              <a:solidFill>
                <a:srgbClr val="000000"/>
              </a:solidFill>
              <a:latin typeface="Tw Cen MT"/>
            </a:endParaRPr>
          </a:p>
          <a:p>
            <a:pPr lvl="2" marL="868680" indent="-21708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w Cen MT"/>
              </a:rPr>
              <a:t>Unemployed/underemployed youth and adults </a:t>
            </a:r>
            <a:endParaRPr b="0" lang="en-US" sz="1200" spc="-1" strike="noStrike">
              <a:solidFill>
                <a:srgbClr val="000000"/>
              </a:solidFill>
              <a:latin typeface="Tw Cen MT"/>
            </a:endParaRPr>
          </a:p>
          <a:p>
            <a:pPr lvl="2" marL="868680" indent="-21708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w Cen MT"/>
              </a:rPr>
              <a:t>EI/Non-EI Eligible </a:t>
            </a:r>
            <a:endParaRPr b="0" lang="en-US" sz="1200" spc="-1" strike="noStrike">
              <a:solidFill>
                <a:srgbClr val="000000"/>
              </a:solidFill>
              <a:latin typeface="Tw Cen MT"/>
            </a:endParaRPr>
          </a:p>
          <a:p>
            <a:pPr lvl="2" marL="868680" indent="-21708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w Cen MT"/>
              </a:rPr>
              <a:t>Aboriginal peoples </a:t>
            </a:r>
            <a:endParaRPr b="0" lang="en-US" sz="1200" spc="-1" strike="noStrike">
              <a:solidFill>
                <a:srgbClr val="000000"/>
              </a:solidFill>
              <a:latin typeface="Tw Cen MT"/>
            </a:endParaRPr>
          </a:p>
          <a:p>
            <a:pPr lvl="2" marL="868680" indent="-21708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w Cen MT"/>
              </a:rPr>
              <a:t>Newcomers to Canada </a:t>
            </a:r>
            <a:endParaRPr b="0" lang="en-US" sz="12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Note: Certain eligibility criteria may apply to specific programs</a:t>
            </a:r>
            <a:r>
              <a:rPr b="0" lang="en-CA" sz="2000" spc="-1" strike="noStrike">
                <a:solidFill>
                  <a:srgbClr val="000000"/>
                </a:solidFill>
                <a:latin typeface="Tw Cen MT"/>
              </a:rPr>
              <a:t>.</a:t>
            </a:r>
            <a:endParaRPr b="0" lang="en-US" sz="20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w Cen MT"/>
              </a:rPr>
              <a:t>EMPLOYMENT ONTARIO</a:t>
            </a:r>
            <a:endParaRPr b="0" lang="en-US" sz="3600" spc="-1" strike="noStrike">
              <a:solidFill>
                <a:srgbClr val="775f55"/>
              </a:solidFill>
              <a:latin typeface="Tw Cen MT"/>
            </a:endParaRPr>
          </a:p>
        </p:txBody>
      </p:sp>
      <p:sp>
        <p:nvSpPr>
          <p:cNvPr id="362" name=""/>
          <p:cNvSpPr txBox="1"/>
          <p:nvPr/>
        </p:nvSpPr>
        <p:spPr>
          <a:xfrm>
            <a:off x="611280" y="1773000"/>
            <a:ext cx="8013600" cy="4020840"/>
          </a:xfrm>
          <a:prstGeom prst="rect">
            <a:avLst/>
          </a:prstGeom>
          <a:noFill/>
          <a:ln w="0">
            <a:noFill/>
          </a:ln>
        </p:spPr>
        <p:txBody>
          <a:bodyPr anchor="t">
            <a:normAutofit fontScale="90000"/>
          </a:bodyPr>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w Cen MT"/>
              </a:rPr>
              <a:t>Employment Ontario</a:t>
            </a:r>
            <a:r>
              <a:rPr b="0" lang="en-CA" sz="2400" spc="-1" strike="noStrike">
                <a:solidFill>
                  <a:srgbClr val="000000"/>
                </a:solidFill>
                <a:latin typeface="Tw Cen MT"/>
              </a:rPr>
              <a:t> helps Ontarians find work </a:t>
            </a: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w Cen MT"/>
              </a:rPr>
              <a:t>Employment Ontario</a:t>
            </a:r>
            <a:r>
              <a:rPr b="0" lang="en-CA" sz="2400" spc="-1" strike="noStrike">
                <a:solidFill>
                  <a:srgbClr val="000000"/>
                </a:solidFill>
                <a:latin typeface="Tw Cen MT"/>
              </a:rPr>
              <a:t> provide personalized advice and services to help people assess their skills and experience, find work and start on the path to skills training</a:t>
            </a: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w Cen MT"/>
              </a:rPr>
              <a:t>Get the skills to succeed:</a:t>
            </a:r>
            <a:r>
              <a:rPr b="0" lang="en-CA" sz="2400" spc="-1" strike="noStrike">
                <a:solidFill>
                  <a:srgbClr val="000000"/>
                </a:solidFill>
                <a:latin typeface="Tw Cen MT"/>
              </a:rPr>
              <a:t>  Talk to a professional counsellor and get the help you need to plan your career, get training, and find a job through the Employment Services program</a:t>
            </a: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w Cen MT"/>
              </a:rPr>
              <a:t>Find jobs:</a:t>
            </a:r>
            <a:r>
              <a:rPr b="0" lang="en-CA" sz="2400" spc="-1" strike="noStrike">
                <a:solidFill>
                  <a:srgbClr val="000000"/>
                </a:solidFill>
                <a:latin typeface="Tw Cen MT"/>
              </a:rPr>
              <a:t> Where and how to seek employment opportunities</a:t>
            </a:r>
            <a:endParaRPr b="0" lang="en-US" sz="24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68360" y="115920"/>
            <a:ext cx="8229600" cy="100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775f55"/>
                </a:solidFill>
                <a:latin typeface="Tw Cen MT"/>
              </a:rPr>
              <a:t>LITERACY AND BASIC SKILLS/ </a:t>
            </a:r>
            <a:br>
              <a:rPr sz="2400"/>
            </a:br>
            <a:r>
              <a:rPr b="1" lang="en-CA" sz="2400" spc="-1" strike="noStrike">
                <a:solidFill>
                  <a:srgbClr val="775f55"/>
                </a:solidFill>
                <a:latin typeface="Tw Cen MT"/>
              </a:rPr>
              <a:t>ACADEMIC UPGRADING</a:t>
            </a:r>
            <a:endParaRPr b="0" lang="en-US" sz="2400" spc="-1" strike="noStrike">
              <a:solidFill>
                <a:srgbClr val="775f55"/>
              </a:solidFill>
              <a:latin typeface="Tw Cen MT"/>
            </a:endParaRPr>
          </a:p>
        </p:txBody>
      </p:sp>
      <p:sp>
        <p:nvSpPr>
          <p:cNvPr id="416" name=""/>
          <p:cNvSpPr txBox="1"/>
          <p:nvPr/>
        </p:nvSpPr>
        <p:spPr>
          <a:xfrm>
            <a:off x="250920" y="1125360"/>
            <a:ext cx="8642160" cy="5732640"/>
          </a:xfrm>
          <a:prstGeom prst="rect">
            <a:avLst/>
          </a:prstGeom>
          <a:noFill/>
          <a:ln w="0">
            <a:noFill/>
          </a:ln>
        </p:spPr>
        <p:txBody>
          <a:bodyPr anchor="t">
            <a:normAutofit fontScale="94000"/>
          </a:bodyPr>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w Cen MT"/>
              </a:rPr>
              <a:t>	</a:t>
            </a:r>
            <a:endParaRPr b="0" lang="en-US" sz="14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he Ontario government’s Literacy and Basic Skills (LBS) Program provides literacy, numeracy, and essential skills services. </a:t>
            </a:r>
            <a:endParaRPr b="0" lang="en-US" sz="18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w Cen MT"/>
              </a:rPr>
              <a:t>What Services Are Available? </a:t>
            </a:r>
            <a:endParaRPr b="0" lang="en-US" sz="20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LBS services, which includes in academic upgrading, are provided at No Cost to learners to improve Reading, Writing, Numeracy and Essential Skills, below the Grade 12 level. These services are offered through Local School Boards, Community based agencies, and Colleges.</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he LBS Program also provides Academic Upgrading services to help learners get the skills they need for entry into Post-Secondary Education and Apprenticeship Training.</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Employment Ontario can help you set upgrading goals and develop a training plan.</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Flexible training options that fit your busy schedule are available through one-on-one tutoring, small-group instruction, or classroom instruction.</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For those who want to learn how to use a computer, technology skills can be incorporated in the training plan.</a:t>
            </a:r>
            <a:endParaRPr b="0" lang="en-US" sz="18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w Cen MT"/>
              </a:rPr>
              <a:t>Who Can Participate? </a:t>
            </a:r>
            <a:endParaRPr b="0" lang="en-US" sz="20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he LBS Program is available to anyone who is out of school and communicates in English or French.  </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LBS services support programming for Anglophone, Francophone, Deaf, and Aboriginal learners.</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775f55"/>
                </a:solidFill>
                <a:latin typeface="Tw Cen MT"/>
              </a:rPr>
              <a:t>The Targeted Initiative for Older Workers</a:t>
            </a:r>
            <a:br>
              <a:rPr sz="2800"/>
            </a:br>
            <a:r>
              <a:rPr b="1" lang="en-CA" sz="2800" spc="-1" strike="noStrike">
                <a:solidFill>
                  <a:srgbClr val="775f55"/>
                </a:solidFill>
                <a:latin typeface="Tw Cen MT"/>
              </a:rPr>
              <a:t>(TIOW)</a:t>
            </a:r>
            <a:endParaRPr b="0" lang="en-US" sz="2800" spc="-1" strike="noStrike">
              <a:solidFill>
                <a:srgbClr val="775f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u="sng">
                <a:solidFill>
                  <a:srgbClr val="000000"/>
                </a:solidFill>
                <a:uFillTx/>
                <a:latin typeface="Tw Cen MT"/>
              </a:rPr>
              <a:t>What is TIOW?</a:t>
            </a: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The Targeted Initiative for Older Workers (TIOW) is a federal-provincial-territorial cost-shared employment program created to provide a range of employment activities for older workers who live in vulnerable communities and who have lost their jobs. These activities include skills upgrading and work experience in new jobs to help them stay in the work force. </a:t>
            </a:r>
            <a:br>
              <a:rPr sz="1600"/>
            </a:br>
            <a:r>
              <a:rPr b="0" lang="en-CA" sz="1600" spc="-1" strike="noStrike">
                <a:solidFill>
                  <a:srgbClr val="000000"/>
                </a:solidFill>
                <a:latin typeface="Tw Cen MT"/>
              </a:rPr>
              <a:t>The TIOW will target communities experiencing ongoing high unemployment and/or a high reliance on a single employer or industry (i.e. 20 per cent of the labour force) affected by downsizing or a closure or closures. </a:t>
            </a: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Projects will include activities such as skills assessment, counselling, skills upgrading and work experience for new jobs. Contribution agreements will establish the roles and responsibilities and eligibility parameters for the program</a:t>
            </a:r>
            <a:endParaRPr b="0" lang="en-US" sz="16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u="sng">
                <a:solidFill>
                  <a:srgbClr val="000000"/>
                </a:solidFill>
                <a:uFillTx/>
                <a:latin typeface="Tw Cen MT"/>
              </a:rPr>
              <a:t>Who does this program apply  to:</a:t>
            </a:r>
            <a:endParaRPr b="0" lang="en-US" sz="16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The program will apply to older workers aged 55 to 64 who have lost their jobs;</a:t>
            </a: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are legally entitled to work in Canada;</a:t>
            </a: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lack skills needed for successful integration into new employment; and</a:t>
            </a: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live in an eligible community. </a:t>
            </a:r>
            <a:endParaRPr b="0" lang="en-US" sz="16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Other Employment Ontario Services in Your Community</a:t>
            </a:r>
            <a:endParaRPr b="0" lang="en-US" sz="3600" spc="-1" strike="noStrike">
              <a:solidFill>
                <a:srgbClr val="775f55"/>
              </a:solidFill>
              <a:latin typeface="Tw Cen MT"/>
            </a:endParaRPr>
          </a:p>
        </p:txBody>
      </p:sp>
      <p:sp>
        <p:nvSpPr>
          <p:cNvPr id="420" name=""/>
          <p:cNvSpPr txBox="1"/>
          <p:nvPr/>
        </p:nvSpPr>
        <p:spPr>
          <a:xfrm>
            <a:off x="612720" y="1600200"/>
            <a:ext cx="8153280" cy="4495680"/>
          </a:xfrm>
          <a:prstGeom prst="rect">
            <a:avLst/>
          </a:prstGeom>
          <a:noFill/>
          <a:ln w="0">
            <a:noFill/>
          </a:ln>
        </p:spPr>
        <p:txBody>
          <a:bodyPr anchor="t">
            <a:normAutofit/>
          </a:bodyPr>
          <a:p>
            <a:pPr marL="318960" indent="-318960">
              <a:spcBef>
                <a:spcPts val="29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18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Ontario Job Creation Partnerships:  </a:t>
            </a:r>
            <a:r>
              <a:rPr b="0" lang="en-CA" sz="1800" spc="-1" strike="noStrike">
                <a:solidFill>
                  <a:srgbClr val="000000"/>
                </a:solidFill>
                <a:latin typeface="Tw Cen MT"/>
              </a:rPr>
              <a:t>is an employment program that provides work experience to unemployed job seekers within projects that benefit the community or local economy. </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Ontario Self-Employment Benefit:  </a:t>
            </a:r>
            <a:r>
              <a:rPr b="0" lang="en-CA" sz="1800" spc="-1" strike="noStrike">
                <a:solidFill>
                  <a:srgbClr val="000000"/>
                </a:solidFill>
                <a:latin typeface="Tw Cen MT"/>
              </a:rPr>
              <a:t>This provides unemployed people who are or have recently been eligible for Employment Insurance with income and entrepreneurial support while they develop and start their business</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18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422"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w Cen MT"/>
              </a:rPr>
              <a:t>Questions?</a:t>
            </a:r>
            <a:endParaRPr b="0" lang="en-US" sz="5400" spc="-1" strike="noStrike">
              <a:solidFill>
                <a:srgbClr val="775f55"/>
              </a:solidFill>
              <a:latin typeface="Tw Cen MT"/>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395280" y="2743200"/>
            <a:ext cx="809928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www.edu.gov.on.ca/eng/tcu/employmentontario/</a:t>
            </a:r>
            <a:endParaRPr b="0" lang="en-US" sz="2800" spc="-1" strike="noStrike">
              <a:solidFill>
                <a:srgbClr val="000000"/>
              </a:solidFill>
              <a:latin typeface="Tw Cen MT"/>
            </a:endParaRPr>
          </a:p>
        </p:txBody>
      </p:sp>
      <p:sp>
        <p:nvSpPr>
          <p:cNvPr id="424"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w Cen MT"/>
              </a:rPr>
              <a:t>Thank You!</a:t>
            </a:r>
            <a:endParaRPr b="0" lang="en-US" sz="5400" spc="-1" strike="noStrike">
              <a:solidFill>
                <a:srgbClr val="775f55"/>
              </a:solidFill>
              <a:latin typeface="Tw Cen MT"/>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775f55"/>
                </a:solidFill>
                <a:latin typeface="Tw Cen MT"/>
              </a:rPr>
              <a:t>Employment Services</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fontScale="94000"/>
          </a:bodyPr>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w Cen MT"/>
              </a:rPr>
              <a:t>The Employment Ontario network of community service providers deliver employment services to individuals who require assistance in obtaining and sustaining employment.  All services are provided in a single point of service within all communities in Ontario.</a:t>
            </a:r>
            <a:endParaRPr b="0" lang="en-US" sz="24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w Cen MT"/>
              </a:rPr>
              <a:t>The Employment Ontario network is comprised of 174 Employment Service providers at 434 sites throughout Ontario.</a:t>
            </a:r>
            <a:endParaRPr b="0" lang="en-US" sz="24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w Cen MT"/>
              </a:rPr>
              <a:t>Clients are able to access job search, placement and incentives, job retention instruction, information and referral services and service planning and co-ordination from a single point of service.</a:t>
            </a:r>
            <a:endParaRPr b="0" lang="en-US" sz="2400" spc="-1" strike="noStrike">
              <a:solidFill>
                <a:srgbClr val="000000"/>
              </a:solidFill>
              <a:latin typeface="Tw Cen MT"/>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omponents of the Employment Service</a:t>
            </a:r>
            <a:endParaRPr b="0" lang="en-US" sz="4000" spc="-1" strike="noStrike">
              <a:solidFill>
                <a:srgbClr val="775f55"/>
              </a:solidFill>
              <a:latin typeface="Tw Cen MT"/>
            </a:endParaRPr>
          </a:p>
        </p:txBody>
      </p:sp>
      <p:pic>
        <p:nvPicPr>
          <p:cNvPr id="366" name="Snagit_PPT66" descr="PPT66.png"/>
          <p:cNvPicPr/>
          <p:nvPr/>
        </p:nvPicPr>
        <p:blipFill>
          <a:blip r:embed="rId1"/>
          <a:srcRect l="10835" t="23337" r="13632" b="14000"/>
          <a:stretch/>
        </p:blipFill>
        <p:spPr>
          <a:xfrm>
            <a:off x="380880" y="1981080"/>
            <a:ext cx="8523360" cy="441972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lient Service Planning &amp; Coordination</a:t>
            </a:r>
            <a:endParaRPr b="0" lang="en-US" sz="40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EO service providers must determine an individual’s primary service need:</a:t>
            </a:r>
            <a:endParaRPr b="0" lang="en-US" sz="3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Use the Resource &amp; Information component</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ferral to other services (either before or concurrent with Employment Service)</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eed for assisted Employment Service components</a:t>
            </a:r>
            <a:endParaRPr b="0" lang="en-US" sz="2800" spc="-1" strike="noStrike">
              <a:solidFill>
                <a:srgbClr val="000000"/>
              </a:solidFill>
              <a:latin typeface="Tw Cen MT"/>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O Providers will Consider…</a:t>
            </a:r>
            <a:endParaRPr b="0" lang="en-US" sz="44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fontScale="80000"/>
          </a:bodyPr>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Individuals’ employability dimensions</a:t>
            </a:r>
            <a:endParaRPr b="0" lang="en-US" sz="3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nterpersonal skills, work history, education</a:t>
            </a:r>
            <a:endParaRPr b="0" lang="en-US" sz="32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Suitability Indicators (further information)</a:t>
            </a:r>
            <a:endParaRPr b="0" lang="en-US" sz="36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The demands of the potential employer</a:t>
            </a:r>
            <a:endParaRPr b="0" lang="en-US" sz="36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Opportunities within the labour market</a:t>
            </a:r>
            <a:endParaRPr b="0" lang="en-US" sz="3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Labour market trends in the region</a:t>
            </a:r>
            <a:endParaRPr b="0" lang="en-US" sz="32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Job/Training opportunities</a:t>
            </a:r>
            <a:endParaRPr b="0" lang="en-US" sz="32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ource &amp; Information</a:t>
            </a:r>
            <a:endParaRPr b="0" lang="en-US" sz="4400" spc="-1" strike="noStrike">
              <a:solidFill>
                <a:srgbClr val="775f55"/>
              </a:solidFill>
              <a:latin typeface="Tw Cen MT"/>
            </a:endParaRPr>
          </a:p>
        </p:txBody>
      </p:sp>
      <p:sp>
        <p:nvSpPr>
          <p:cNvPr id="372" name=""/>
          <p:cNvSpPr txBox="1"/>
          <p:nvPr/>
        </p:nvSpPr>
        <p:spPr>
          <a:xfrm>
            <a:off x="612360" y="1599840"/>
            <a:ext cx="8783640" cy="5257800"/>
          </a:xfrm>
          <a:prstGeom prst="rect">
            <a:avLst/>
          </a:prstGeom>
          <a:noFill/>
          <a:ln w="0">
            <a:noFill/>
          </a:ln>
        </p:spPr>
        <p:txBody>
          <a:bodyPr anchor="t">
            <a:normAutofit fontScale="90000"/>
          </a:bodyPr>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Open access service for the community</a:t>
            </a:r>
            <a:endParaRPr b="0" lang="en-US" sz="32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o eligibility or access criteria (intake)</a:t>
            </a:r>
            <a:endParaRPr b="0" lang="en-US" sz="28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ncludes:</a:t>
            </a:r>
            <a:endParaRPr b="0" lang="en-US" sz="32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Labour market information</a:t>
            </a:r>
            <a:endParaRPr b="0" lang="en-US" sz="28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sources to support independent (unassisted) job search</a:t>
            </a:r>
            <a:endParaRPr b="0" lang="en-US" sz="28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areer clarification and planning</a:t>
            </a:r>
            <a:endParaRPr b="0" lang="en-US" sz="28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formation on local training opportunities, local employment opportunities, community service supports</a:t>
            </a:r>
            <a:endParaRPr b="0" lang="en-US" sz="28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rovides a means for employers to recruit employees</a:t>
            </a:r>
            <a:endParaRPr b="0" lang="en-US" sz="28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orkshops / Info Sessions</a:t>
            </a:r>
            <a:endParaRPr b="0" lang="en-US" sz="4400" spc="-1" strike="noStrike">
              <a:solidFill>
                <a:srgbClr val="775f55"/>
              </a:solidFill>
              <a:latin typeface="Tw Cen MT"/>
            </a:endParaRPr>
          </a:p>
        </p:txBody>
      </p:sp>
      <p:sp>
        <p:nvSpPr>
          <p:cNvPr id="374" name=""/>
          <p:cNvSpPr txBox="1"/>
          <p:nvPr/>
        </p:nvSpPr>
        <p:spPr>
          <a:xfrm>
            <a:off x="612720" y="1600200"/>
            <a:ext cx="8531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Orientation to Employment Services</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Resume &amp; Cover Letter</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Job Search</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nterview Skills</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Labour Market Information / Career Exploration</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3T19:09:21Z</dcterms:created>
  <dc:creator>shannon.crawford</dc:creator>
  <dc:description/>
  <dc:language>en-US</dc:language>
  <cp:lastModifiedBy>aholmes</cp:lastModifiedBy>
  <dcterms:modified xsi:type="dcterms:W3CDTF">2011-07-08T18:27:50Z</dcterms:modified>
  <cp:revision>54</cp:revision>
  <dc:subject/>
  <dc:title>Employment  Programs and Services  Service Canada &amp; Province of Ontario</dc:title>
</cp:coreProperties>
</file>